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7F9-79E9-4B64-B942-6092660A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9EA-1C1B-43CD-A2E4-B7CB61E9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663-9121-4778-A800-18751740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D52-FC1C-4FC9-B6AB-71B34AA4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AA80-378A-4173-8748-7688FECB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6F7-4702-4A30-BCB4-AF0F9B08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8D04-4305-4EB5-8153-A31684B8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E1CC-A86A-4E8D-9ED7-A21D9825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5E3B-0C9B-4047-8876-69F1CC70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BC06-AF72-4D77-B8B4-99E8F6FA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D316-5C94-440B-96A1-FA785443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638-3782-4698-B8CC-4C04D6B4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1159-DD67-40BC-83E2-489B2DC1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BC96-F666-4222-A03C-64670FC3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B0A6-FCEC-4129-91EC-791633D8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D8BE-7C9A-467F-9AD5-03DE20DE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D132-6257-4358-A722-B919B292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6D6-7996-4743-BDCC-936A5567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172-1D43-4075-94B3-CEE5D3B3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964-41A5-4C5A-9ED1-1FF84DA2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445-3A8B-49A6-B3EE-17E3797C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EF5-F2F2-4086-B256-FE882B0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442-9A26-48B6-8BAD-7E973156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D77-BF6B-4D44-B1E6-2FBB9723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581E-BC23-4A31-95B0-9A625B7D5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C22F-25C0-46CA-B970-69349F2A2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cilit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all directions &amp; questions to the group and initiates the team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he discussion or group work and makes sure that each member con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states what members say: “So what you are telling us is that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124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source Manag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s out and puts away all group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track of time and makes sure that group gets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when the group needs the teacher’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er/ Recor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notes on the reading or the group’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work of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findings to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2590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sk Manag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s the team to stay on ta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the team talk focused on the work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group facts and findings for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4:31:44Z</dcterms:created>
  <dc:creator>Technology Department</dc:creator>
  <dc:description/>
  <dc:language>en-US</dc:language>
  <cp:lastModifiedBy>Technology Department</cp:lastModifiedBy>
  <dcterms:modified xsi:type="dcterms:W3CDTF">2010-03-23T14:52:25Z</dcterms:modified>
  <cp:revision>6</cp:revision>
  <dc:subject/>
  <dc:title>Discussion/ Activity Director</dc:title>
</cp:coreProperties>
</file>